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3C4-B09F-4E45-BA74-3329749D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74C-8B75-4ED8-BA34-B9852534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357-D540-44E0-98D4-972E1C12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AAA-DA9C-4C69-A89A-E023D7EC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2F4-DEB0-47AA-BA90-77568C88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0C0-BE14-4870-9394-21C5C8BF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71C-CD2C-4FFF-A908-2A6AC287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55B-2446-458C-BE6B-2D32421C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04F-7AA2-4E37-B281-EAAE20AE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FA9-34AC-4382-B496-640DA3D1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26A-B56D-411E-ADBA-EFB77874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1A4-91F7-44D9-B07E-8C1AF620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3DF3-6325-488C-9EC7-EBCB12497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-6480" y="1219320"/>
            <a:ext cx="9156960" cy="3408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6172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aura Duf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562720" y="6149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erry McGow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1" descr=""/>
          <p:cNvPicPr/>
          <p:nvPr/>
        </p:nvPicPr>
        <p:blipFill>
          <a:blip r:embed="rId1"/>
          <a:stretch/>
        </p:blipFill>
        <p:spPr>
          <a:xfrm>
            <a:off x="-334800" y="-268200"/>
            <a:ext cx="9813600" cy="2523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0" y="396252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∆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1"/>
          <p:cNvGrpSpPr/>
          <p:nvPr/>
        </p:nvGrpSpPr>
        <p:grpSpPr>
          <a:xfrm>
            <a:off x="914400" y="4038480"/>
            <a:ext cx="7170840" cy="1447920"/>
            <a:chOff x="914400" y="4038480"/>
            <a:chExt cx="7170840" cy="1447920"/>
          </a:xfrm>
        </p:grpSpPr>
        <p:sp>
          <p:nvSpPr>
            <p:cNvPr id="47" name="TextBox 7"/>
            <p:cNvSpPr/>
            <p:nvPr/>
          </p:nvSpPr>
          <p:spPr>
            <a:xfrm>
              <a:off x="914400" y="4721040"/>
              <a:ext cx="717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∆ </a:t>
              </a: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EG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Straight Connector 9"/>
            <p:cNvSpPr/>
            <p:nvPr/>
          </p:nvSpPr>
          <p:spPr>
            <a:xfrm>
              <a:off x="2886840" y="4680000"/>
              <a:ext cx="31669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5"/>
            <p:cNvSpPr/>
            <p:nvPr/>
          </p:nvSpPr>
          <p:spPr>
            <a:xfrm>
              <a:off x="2273400" y="4038480"/>
              <a:ext cx="4529160" cy="1447920"/>
            </a:xfrm>
            <a:prstGeom prst="rect">
              <a:avLst/>
            </a:prstGeom>
            <a:noFill/>
            <a:ln w="381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8"/>
          <p:cNvSpPr/>
          <p:nvPr/>
        </p:nvSpPr>
        <p:spPr>
          <a:xfrm>
            <a:off x="0" y="294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PC is equal 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602080" y="586728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, G, X-IM are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1" descr=""/>
          <p:cNvPicPr/>
          <p:nvPr/>
        </p:nvPicPr>
        <p:blipFill>
          <a:blip r:embed="rId1"/>
          <a:stretch/>
        </p:blipFill>
        <p:spPr>
          <a:xfrm>
            <a:off x="-6480" y="-268200"/>
            <a:ext cx="9156960" cy="1616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0" y="18288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PC is the slope of the Consumption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greater the MPC, the greater the multip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steeper the Consumption Function, the greater the multip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0" y="1419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ore we try to save, the less our ability to save would 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35053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cide as a nation to save more at all levels of GDP 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→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Spending less at all levels of GDP 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→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Autonomous ↓ in C 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→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↓ Y 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→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↓ DI 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→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Reduces ability to s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-324000" y="-268200"/>
            <a:ext cx="9785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2:16Z</dcterms:created>
  <dc:creator>JWUSSLER</dc:creator>
  <dc:description/>
  <dc:language>en-US</dc:language>
  <cp:lastModifiedBy>HP Authorized Customer</cp:lastModifiedBy>
  <dcterms:modified xsi:type="dcterms:W3CDTF">2009-01-27T22:28:12Z</dcterms:modified>
  <cp:revision>7</cp:revision>
  <dc:subject/>
  <dc:title>Slide 1</dc:title>
</cp:coreProperties>
</file>